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585-E0A4-4C34-AFC1-9881D7B0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A3B-6255-468A-AD8C-EDB3317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FE5-2A8E-4680-977D-C65E270F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60A-6EE1-4668-B1E3-5A5A8F42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82C-9090-4ECF-BAE0-2149828D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8A21-7C3F-42DF-A5CA-E89EF41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6916-7856-4C31-A452-0F725CCD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5169-478D-4C33-B5B3-A031A8F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3EC-3AA9-430C-BD68-6CD2C04E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722-CEED-4CB8-BC01-89C24392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8C8C-4CB6-4807-9F02-2A34312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8E4-7136-4E97-8B5E-02B1036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D74B-6500-4712-A608-6F74037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B29E-996C-48D0-8737-76235AF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08F4-D8A3-4A66-A212-C157A5C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72DB-7613-40FB-887F-D07D658B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036C-115B-4BD3-AD5B-D1CFDA12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370-9584-49EB-868C-84FCB698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757-3347-44B0-900E-AD19C14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060-B14E-471E-B549-CEC9430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780-EEF4-4020-B904-2FF5DD1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9C8-7C89-4D9E-91F6-171D22F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BD0-C174-4EB7-9819-6E2681D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5B9-4361-4D77-AC8F-D238F53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자유형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직각 삼각형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직각 삼각형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그룹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자유형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자유형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자유형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직선 연결선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FF28EB-9DA9-4B2A-9457-B35FA3C119E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자유형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자유형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직각 삼각형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마스터 텍스트 스타일을 편집합니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ko-KR" sz="2300" spc="-1" strike="noStrike">
                <a:solidFill>
                  <a:srgbClr val="000000"/>
                </a:solidFill>
                <a:latin typeface="Lucida Sans Unicode"/>
              </a:rPr>
              <a:t>둘째 수준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2100" spc="-1" strike="noStrike">
                <a:solidFill>
                  <a:srgbClr val="000000"/>
                </a:solidFill>
                <a:latin typeface="Lucida Sans Unicode"/>
              </a:rPr>
              <a:t>셋째 수준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900" spc="-1" strike="noStrike">
                <a:solidFill>
                  <a:srgbClr val="000000"/>
                </a:solidFill>
                <a:latin typeface="Lucida Sans Unicode"/>
              </a:rPr>
              <a:t>넷째 수준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다섯째 수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C96B1A-2274-4B30-BFDB-485709ADD1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서열정렬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0040" y="442908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87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010.11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ritten By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배형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dot-matrix represent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240" cy="114264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chemeClr val="accent2"/>
                </a:solidFill>
                <a:latin typeface="Lucida Sans Unicode"/>
              </a:rPr>
              <a:t>최적 정렬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4722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. Optim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proven mathmatically to produce the best-scoring between two sequenc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r a given scoring syste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. Global and loc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global alignment program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Needleman-Wunsch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local alignment program  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Smith-Waterman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. Choice in dynamic programm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lignments obtained depend on the choice of a scoring system for comparing character pairs and on penalty scores for g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4. Alignments, alignment scores, and alterative align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5. Analysis go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Dayhoff PAM matrices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evolutionary model of protein chang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- BLOSUM matrices      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 identify members of the same famil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ynamic Programming Method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250020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Needleman-wunsch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576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matrix D(I, j) indexed by residues of each sequence 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ilt recursively, such th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) = max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D(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1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j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1) +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s(x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yj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 -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1; j)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 -,1)  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bject to a boundary conditions. s(I, j) is the substitu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ore for residues i and j, and g is the gap penal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edleman-Wunsch algorithm consists of three ste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Initialisation of the score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Calculation of scores and filling th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eback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Deducing the alignment from the tracebac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9000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of two sequences SEND and AND with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LOSUM62 substitution matrix and gap opening penal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 10 (no gap extension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AND score: +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ND score: +3 the b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-D score: -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- score: -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onsider the simple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내용 개체 틀 6"/>
          <p:cNvGraphicFramePr/>
          <p:nvPr/>
        </p:nvGraphicFramePr>
        <p:xfrm>
          <a:off x="64296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core and traceback matric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직사각형 3"/>
          <p:cNvSpPr/>
          <p:nvPr/>
        </p:nvSpPr>
        <p:spPr>
          <a:xfrm>
            <a:off x="642960" y="1285920"/>
            <a:ext cx="8357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ells of the score matrix are labelled C(I,j)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 = 1; 2; :::;N and j = 1; 2; :::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내용 개체 틀 6"/>
          <p:cNvGraphicFramePr/>
          <p:nvPr/>
        </p:nvGraphicFramePr>
        <p:xfrm>
          <a:off x="471492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8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42920" y="321480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Initializ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39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4"/>
          <p:cNvSpPr/>
          <p:nvPr/>
        </p:nvSpPr>
        <p:spPr>
          <a:xfrm>
            <a:off x="642960" y="1143000"/>
            <a:ext cx="728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first row and the the first column of the s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matrices are filled during th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71320" y="30002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642600"/>
                <a:gridCol w="64260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10"/>
          <p:cNvSpPr/>
          <p:nvPr/>
        </p:nvSpPr>
        <p:spPr>
          <a:xfrm>
            <a:off x="57150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857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matrix cells are filled by row start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e cell C(2;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of any cell C(I,j) is the maximum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qdiag =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+ S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   = C(i–1, j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qleft  =  C(i, j-1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S(i; j) is the substitution score for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ters i and j, and g is the gap penal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coring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Outlin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500120"/>
            <a:ext cx="8643600" cy="414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서열분석 목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irwise alignment/Multiple Sequence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t-matrix represen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eedleman-wunsch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mith-Waterman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LOS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alculation for the cell C(2; 2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diag =  C(1, 1) + S(S, A) = 0 + 1   =   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=  C(1, 2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left   =  C(2, 1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C(1,1), C(1, 2), and C(2,1) are read from the score matrix, and S(S,A) is the score for the S &lt;-&gt; A taken from the BLOSUM62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value of C(2,2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Filling the score and traceback matric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직사각형 3"/>
          <p:cNvSpPr/>
          <p:nvPr/>
        </p:nvSpPr>
        <p:spPr>
          <a:xfrm>
            <a:off x="357120" y="1214280"/>
            <a:ext cx="8500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the score matrix C(2, 2) = qdiag  which is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responding cell of the traceback matrix is "diag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6"/>
          <p:cNvSpPr/>
          <p:nvPr/>
        </p:nvSpPr>
        <p:spPr>
          <a:xfrm>
            <a:off x="1928880" y="21430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71320" y="314316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traceback pat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6" name="내용 개체 틀 6"/>
          <p:cNvGraphicFramePr/>
          <p:nvPr/>
        </p:nvGraphicFramePr>
        <p:xfrm>
          <a:off x="1071360" y="2000160"/>
          <a:ext cx="3571560" cy="2736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7" name="직사각형 4"/>
          <p:cNvSpPr/>
          <p:nvPr/>
        </p:nvSpPr>
        <p:spPr>
          <a:xfrm>
            <a:off x="642960" y="1214280"/>
            <a:ext cx="800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raceback performed on the completed traceback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000160" y="16430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42960" y="27860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714920" y="42148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star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직선 화살표 연결선 9"/>
          <p:cNvCxnSpPr/>
          <p:nvPr/>
        </p:nvCxnSpPr>
        <p:spPr>
          <a:xfrm flipH="1" flipV="1">
            <a:off x="3714480" y="371448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2" name="원호 10"/>
          <p:cNvSpPr/>
          <p:nvPr/>
        </p:nvSpPr>
        <p:spPr>
          <a:xfrm rot="12592800">
            <a:off x="4426920" y="4152960"/>
            <a:ext cx="1087920" cy="714960"/>
          </a:xfrm>
          <a:prstGeom prst="arc">
            <a:avLst>
              <a:gd name="adj1" fmla="val 8839282"/>
              <a:gd name="adj2" fmla="val 18757155"/>
            </a:avLst>
          </a:prstGeom>
          <a:noFill/>
          <a:ln>
            <a:solidFill>
              <a:srgbClr val="2da2bf"/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63" name="직선 화살표 연결선 11"/>
          <p:cNvCxnSpPr/>
          <p:nvPr/>
        </p:nvCxnSpPr>
        <p:spPr>
          <a:xfrm flipH="1" flipV="1">
            <a:off x="3071520" y="300024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4" name="직선 화살표 연결선 12"/>
          <p:cNvCxnSpPr/>
          <p:nvPr/>
        </p:nvCxnSpPr>
        <p:spPr>
          <a:xfrm flipH="1" flipV="1">
            <a:off x="2428560" y="3071520"/>
            <a:ext cx="57204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5" name="직선 화살표 연결선 15"/>
          <p:cNvCxnSpPr/>
          <p:nvPr/>
        </p:nvCxnSpPr>
        <p:spPr>
          <a:xfrm flipH="1" flipV="1">
            <a:off x="1714320" y="2428560"/>
            <a:ext cx="357480" cy="357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6" name="직사각형 17"/>
          <p:cNvSpPr/>
          <p:nvPr/>
        </p:nvSpPr>
        <p:spPr>
          <a:xfrm>
            <a:off x="5143680" y="2357280"/>
            <a:ext cx="1499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 E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214280"/>
            <a:ext cx="8929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is over the entire length of two sequenc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raceback starts from the lower right corner of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ceback matrix, and completes in the upper left cell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atrix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works in the sa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y regardless of the length or complexity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quences, and guarantees to  find the best alig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is appropriate f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ing the best alignment of two sequen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ich are (i) of the similar length; (ii) similar across thei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ire leng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ummary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23572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    </a:t>
            </a: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Local Alignment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알고리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주어진 치환행렬과 갭 감점을 기반으로 두서열의 유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사도가 높은 영역을정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최적의점수를기록한서열의정렬을찾아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부분적인정렬스코어를가진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차원의테이블을만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안의 각셀은 최적의 부분정렬을 찾아 낼수 있는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스코어를 포함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두서열의 상동성 검색에 사용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굴림체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 rot="5400000">
            <a:off x="2214720" y="-642600"/>
            <a:ext cx="4643280" cy="8500680"/>
          </a:xfrm>
          <a:prstGeom prst="rect">
            <a:avLst/>
          </a:prstGeom>
          <a:ln w="9525">
            <a:noFill/>
          </a:ln>
        </p:spPr>
      </p:pic>
      <p:sp>
        <p:nvSpPr>
          <p:cNvPr id="173" name="직사각형 6"/>
          <p:cNvSpPr/>
          <p:nvPr/>
        </p:nvSpPr>
        <p:spPr>
          <a:xfrm>
            <a:off x="1571760" y="500040"/>
            <a:ext cx="563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5400000">
            <a:off x="2135880" y="-421200"/>
            <a:ext cx="487224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 rot="5400000">
            <a:off x="1500120" y="-928440"/>
            <a:ext cx="614340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2286000"/>
            <a:ext cx="8229240" cy="1142640"/>
          </a:xfrm>
          <a:prstGeom prst="rect">
            <a:avLst/>
          </a:prstGeom>
          <a:noFill/>
          <a:ln w="0">
            <a:solidFill>
              <a:srgbClr val="92d050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ubstitution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의 목적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42960" y="1571760"/>
            <a:ext cx="77864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분자생물학의 경험적 지식 사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두 분자가 유사한 서열을 가지면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진화적인 관계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물리 화학적인 제약때문에 유사한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차원구조와 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슷한 생물학적 기능을 갖기 쉽다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뉴클레오티드 또는  아미노산 서열로 쓰여진 고차원 의 구조와 기능적인 정보를 밝혀내기 위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구조적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기능적 속성으로 확장 될 수 있는 서열 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징을 찾고자 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320" cy="10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What is Substitution Matrix(Score Matrix)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직사각형 3"/>
          <p:cNvSpPr/>
          <p:nvPr/>
        </p:nvSpPr>
        <p:spPr>
          <a:xfrm>
            <a:off x="428760" y="1285920"/>
            <a:ext cx="8000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정의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어떤 아미노산이가 다른 아미노산로 치환되었을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전체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백질에영향을 미치는 확률적인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서열정렬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아미노산이 서로 비슷한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4"/>
          <p:cNvSpPr/>
          <p:nvPr/>
        </p:nvSpPr>
        <p:spPr>
          <a:xfrm>
            <a:off x="428760" y="3000240"/>
            <a:ext cx="65005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치환행렬의 기본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g 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공통조상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우연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직사각형 5"/>
          <p:cNvSpPr/>
          <p:nvPr/>
        </p:nvSpPr>
        <p:spPr>
          <a:xfrm>
            <a:off x="428760" y="4000680"/>
            <a:ext cx="7429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가장 단순한 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실무율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all-or-no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ij= 1 or 0 (1 for i=j, 0 for the 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yhoff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6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년대 중반부터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amily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에 속하는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5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의 단백질 서열데이터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irwise alignment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방법을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이용하여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가지 아미노산이 치환될 확률을 통계적으로 분석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PAM1, PAM10, PAM20,…., PAM50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처럼 뒤에 나오는 숫자는 단위 진화시간이 그숫자  만큼 반복할 경우 나타날 아미노산 치환확률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즉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, PAM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을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곱해서 만들고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단위의 진화적 시간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반복될경우 나타나는 아미노산의 치환확률의 수치화된 표현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: PAM120 or PAM25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(Point Accepted Mutation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11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 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이란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?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00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의 아미노산중 치환돌연변이 가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 존재할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따라서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위는 진화적 거리의 척도로도 사용된다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Uni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 rot="5400000">
            <a:off x="2929320" y="356760"/>
            <a:ext cx="3357360" cy="792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 rot="5400000">
            <a:off x="2143080" y="-357120"/>
            <a:ext cx="5000400" cy="8429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5400000">
            <a:off x="-506160" y="1434600"/>
            <a:ext cx="5870160" cy="442872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 rot="5400000">
            <a:off x="3822120" y="1607040"/>
            <a:ext cx="6000480" cy="421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even Henikoff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992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년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을 개선하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위하여 고안되었고 따라서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보다 우수한결과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제공한다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BLOSUM(m)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형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은 다중서열일치정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BLOSUM62 (NCBI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AST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 BLOSUM50 (FAST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(Blocks Substitution Matrix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</a:t>
            </a:r>
            <a:r>
              <a:rPr b="1" lang="ko-KR" sz="4100" spc="-1" strike="noStrike">
                <a:solidFill>
                  <a:srgbClr val="ff0000"/>
                </a:solidFill>
                <a:latin typeface="Lucida Sans Unicode"/>
              </a:rPr>
              <a:t>행렬 형성 과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 rot="5400000">
            <a:off x="2179080" y="-535680"/>
            <a:ext cx="4571640" cy="835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 rot="5400000">
            <a:off x="-178200" y="1607040"/>
            <a:ext cx="5214600" cy="457164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 rot="5400000">
            <a:off x="4160160" y="1840680"/>
            <a:ext cx="5209920" cy="41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vs. BLOSU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 rot="5400000">
            <a:off x="3786480" y="-1142640"/>
            <a:ext cx="1571400" cy="871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1214280"/>
            <a:ext cx="7071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 해석에 대한 두가지 접근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유사성 검색 또는 상동성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모티브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6" descr="a"/>
          <p:cNvPicPr/>
          <p:nvPr/>
        </p:nvPicPr>
        <p:blipFill>
          <a:blip r:embed="rId1"/>
          <a:stretch/>
        </p:blipFill>
        <p:spPr>
          <a:xfrm>
            <a:off x="714240" y="2500200"/>
            <a:ext cx="7515000" cy="3238200"/>
          </a:xfrm>
          <a:prstGeom prst="rect">
            <a:avLst/>
          </a:prstGeom>
          <a:ln w="9525">
            <a:noFill/>
          </a:ln>
        </p:spPr>
      </p:pic>
      <p:sp>
        <p:nvSpPr>
          <p:cNvPr id="105" name="Rectangle 38"/>
          <p:cNvSpPr/>
          <p:nvPr/>
        </p:nvSpPr>
        <p:spPr>
          <a:xfrm>
            <a:off x="2857320" y="5286240"/>
            <a:ext cx="2015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여전히 가장 선호 </a:t>
            </a:r>
            <a:br>
              <a:rPr sz="1800"/>
            </a:b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되는 접근 방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357880" y="4429080"/>
            <a:ext cx="3239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모든 형태의 기능 속성에 대한 경험적인 법칙들을 만드는 것이 가능 하지 않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28760" y="1500120"/>
            <a:ext cx="8072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최적의 서열 정렬을 얻는 문제는 전반적인 유사성을 나타내는 점수 함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Score Function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를 최적화 하는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공백은 일치하는 문자쌍의 수를 최대화하거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치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그리고 삽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삭제와 같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편집 연산의 수를 최소화 하기 위해서 추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core Function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아미노산 또는 뉴클레오티드들 사이의 유사성 측정값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삽입 및 삭제에 대한 벌점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penalties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을 통해 계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제목 2"/>
          <p:cNvSpPr/>
          <p:nvPr/>
        </p:nvSpPr>
        <p:spPr>
          <a:xfrm>
            <a:off x="214200" y="3929040"/>
            <a:ext cx="8229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57120" y="4643280"/>
            <a:ext cx="8072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lobal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Local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전체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부분적인 유사 영역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ir wis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Multipl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개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세개 이상의 서열 정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가지 단백질의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 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라이브러리에 대한 아미노산 서열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est alignment over the entire length of two sequ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the two sequences are of similar length, with a signicant degree of similarity through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I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-LLAR-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Glob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8929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ing stretches that are shorter than the entire sequences, possibly more than o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comparing substantially different sequences, which possibly differ signicantly in length, and have only a short patches of similar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the local alignment of SIMILARITY and PILL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L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Loc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Pairwis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rot="5400000">
            <a:off x="3393360" y="-1249920"/>
            <a:ext cx="2142720" cy="85006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 rot="5400000">
            <a:off x="3712680" y="716400"/>
            <a:ext cx="157572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Multipl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 rot="5400000">
            <a:off x="2931480" y="-716760"/>
            <a:ext cx="3566880" cy="8286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124</TotalTime>
  <Application>LibreOffice/7.4.7.2$Linux_X86_64 LibreOffice_project/40$Build-2</Application>
  <AppVersion>15.0000</AppVersion>
  <Words>1455</Words>
  <Paragraphs>292</Paragraphs>
  <Company>Custom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0:17:58Z</dcterms:created>
  <dc:creator>Preferred Customer</dc:creator>
  <dc:description/>
  <dc:language>en-US</dc:language>
  <cp:lastModifiedBy>korea</cp:lastModifiedBy>
  <dcterms:modified xsi:type="dcterms:W3CDTF">2010-12-26T06:02:54Z</dcterms:modified>
  <cp:revision>117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화면 슬라이드 쇼(4:3)</vt:lpwstr>
  </property>
  <property fmtid="{D5CDD505-2E9C-101B-9397-08002B2CF9AE}" pid="3" name="Slides">
    <vt:r8>38</vt:r8>
  </property>
</Properties>
</file>